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1E96-1133-4CD5-8974-16128324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8262-DCD3-436B-BFCC-2310EA39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A324-F0E5-4E50-8CFF-57393DF1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0B1E-41E2-4A1E-93CE-C89792B1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FDA0-F0FA-4D48-A0D4-8B8935D9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941D-3EE1-4EF9-8537-5304531C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58BC-1408-4A73-9BD3-57CA0534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96F2-C3CE-4137-BF5F-4952F84E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3EA7-4251-45A4-92DE-0C07AB6A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710B-AD4E-473D-B50C-CC203B28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0595-1B3C-4CD1-8D85-4581D180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62F7-15E1-4066-8161-CE4E997D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D1E9-5B3B-4512-ACE5-9E6B9CD72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web.mit.edu/invent/iow/gabor.html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762120"/>
            <a:ext cx="39625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ff00"/>
                  </a:solidFill>
                  <a:prstDash val="lgDash"/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750075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entury Gothic"/>
              </a:rPr>
              <a:t>Hologram</a:t>
            </a:r>
            <a:endParaRPr b="1" i="1" lang="en-US" sz="1800" spc="1" strike="noStrike">
              <a:ln w="12600">
                <a:solidFill>
                  <a:srgbClr val="00ff00"/>
                </a:solidFill>
                <a:prstDash val="lgDash"/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750075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  <p:sp>
        <p:nvSpPr>
          <p:cNvPr id="42" name=""/>
          <p:cNvSpPr/>
          <p:nvPr/>
        </p:nvSpPr>
        <p:spPr>
          <a:xfrm>
            <a:off x="5410080" y="3886200"/>
            <a:ext cx="3353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l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-27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#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5943600"/>
            <a:ext cx="5943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at Briar Road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0-4-201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343400" y="4343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400800" y="1828800"/>
            <a:ext cx="1843200" cy="1282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943600" y="137160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vention: Hol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nis was born in Budapest, Germany on June 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1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nis had worked with Albert Einstein and Max Plan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nis Gabor had gotten a doctoral degree for engine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accepted a position with Siemens and Halske 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nis Gabor became an author as he grew older. He wrote books about the future such as: “Inventing The Future”, “Innovations”, and “The Mature Socie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695240" cy="1191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2286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ventor: Dennis Gab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hologram is formed when the interference patterns of two waves of light are recorded on fil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day holograms are used for many things such as: taking measurement in particle physics, security in credit cards, currency notes, and bar code rea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ograms used to be called a wave front reco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gression of the hologram became very slow until a new light source was found. (the las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ologram is also used to capture three-dimensional objects on fil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Epperson"/>
          <p:cNvPicPr/>
          <p:nvPr/>
        </p:nvPicPr>
        <p:blipFill>
          <a:blip r:embed="rId1"/>
          <a:srcRect l="57071" t="0" r="0" b="0"/>
          <a:stretch/>
        </p:blipFill>
        <p:spPr>
          <a:xfrm>
            <a:off x="5715000" y="457200"/>
            <a:ext cx="3043080" cy="2583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Epperson"/>
          <p:cNvPicPr/>
          <p:nvPr/>
        </p:nvPicPr>
        <p:blipFill>
          <a:blip r:embed="rId2"/>
          <a:srcRect l="-3213" t="26558" r="41942" b="0"/>
          <a:stretch/>
        </p:blipFill>
        <p:spPr>
          <a:xfrm>
            <a:off x="380880" y="2057400"/>
            <a:ext cx="4343400" cy="1897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5486400"/>
            <a:ext cx="5486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melsons MIT program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ologra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September 29, 2010 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http://web.mit.edu/invent/iow/gabo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Gabor"/>
          <p:cNvPicPr/>
          <p:nvPr/>
        </p:nvPicPr>
        <p:blipFill>
          <a:blip r:embed="rId4"/>
          <a:stretch/>
        </p:blipFill>
        <p:spPr>
          <a:xfrm>
            <a:off x="6400800" y="3733920"/>
            <a:ext cx="198108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14Z</dcterms:created>
  <dc:creator>install</dc:creator>
  <dc:description/>
  <dc:language>en-US</dc:language>
  <cp:lastModifiedBy>install</cp:lastModifiedBy>
  <dcterms:modified xsi:type="dcterms:W3CDTF">2010-10-13T17:50:50Z</dcterms:modified>
  <cp:revision>16</cp:revision>
  <dc:subject/>
  <dc:title>Slide 1</dc:title>
</cp:coreProperties>
</file>